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9404D-E85B-4851-B3F8-E727BDB724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95E42-0C96-4CC9-B29F-72579D2A03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F69A3-81AE-4173-8928-B83049CC12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D4ED7-92CE-4E40-A7E4-A59AD583BB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DF92D-FDE6-45AD-96E6-8F3E55CA02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602CE-F64F-4B53-912A-DCE921E0DC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20CFD-A17C-491B-ABF2-788EFD072F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07AD0-E96B-4C08-A911-87CF369B84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CE4D0-DDF3-4836-A285-F56560B94F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2058F-FB24-4B90-8EB0-D79A1E1170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68B5D-4D6C-4B18-9CA4-D31E0CB3CE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B2507-7ADC-4935-B920-B8C5C7549F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FC0EB-33EB-4DD1-A70A-4BB85C8460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DE148-C39C-43A7-969A-2BE860FC52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924E74-0E46-4E2A-86D0-4E959C2F64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9A857A-83F5-41E5-AE87-D86EC6B1CA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F2E49F-EC72-4897-8E8C-79246D4D3E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85073A-DE9D-4523-A48E-1421E4E701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7C93-9403-494B-BC38-1D3A58B930F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536A-5AF6-40E2-A26D-8DFF7E84984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3197-0559-4416-8A51-22F9E9DF621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B2D4-DB41-4639-9306-406AE14D5D9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ED13-EC4B-485D-BBF3-9D3B0859B26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F385-DC10-4E97-9B22-3942F47E062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56DD-738E-4042-B10E-FADC349178D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72697F-CA42-4722-BE64-25371FD28C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7E17-2BB9-4C20-AEE8-EB14333370E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EEF0-C386-4705-9B2C-8726F51C53E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25A7-0D08-433B-8B05-71B677B17F5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A4C5-C949-41EA-B427-F7FE382E268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C0B4-2B05-4CAF-8B9B-BD3F52F54CA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A943C4-B378-4AED-B269-31AEFA885C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78DFB5-EA54-4B68-9376-9CCFD7A81E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B6ADAA-9A1C-4FF0-B651-70E0A95FB7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95F93F-2B3E-4A9C-B702-8321113024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4F92EF-C233-4D82-A137-C0D67D2421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8B2F09-F268-476D-BBB7-773176FD6A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66FDA1-DA56-4EFE-9D81-99CFC2EB12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DBEB3-CE94-481B-9F45-BE5A912407F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28520" indent="-205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440000" indent="-205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851480" indent="-205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D1BE9-9471-415B-A7AE-E8708C5AA7A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1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124" name=""/>
          <p:cNvSpPr/>
          <p:nvPr/>
        </p:nvSpPr>
        <p:spPr>
          <a:xfrm>
            <a:off x="2971800" y="1600200"/>
            <a:ext cx="617220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Process Control: Q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uality Control of Qualitative and Semi-Quantitative Procedures</a:t>
            </a: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25" name="Picture 16" descr="WHO-EN-C-H"/>
          <p:cNvPicPr/>
          <p:nvPr/>
        </p:nvPicPr>
        <p:blipFill>
          <a:blip r:embed="rId1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2BSLATH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F62F-196A-4DA9-AB2F-2A6DBF6C773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Using Traditional Contro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est as per patient samp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use a positive and negative control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 a weak positive control for immunological proced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hoose positive controls close to the cut-off val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 control to monitor extraction pha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84688-00C1-4979-8451-1DE8F3EE153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E7043-141B-45A7-887C-68D91C4E0FD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5715000" y="2438280"/>
            <a:ext cx="3200400" cy="2756160"/>
          </a:xfrm>
          <a:prstGeom prst="rect">
            <a:avLst/>
          </a:prstGeom>
          <a:ln w="0">
            <a:noFill/>
          </a:ln>
        </p:spPr>
      </p:pic>
      <p:sp>
        <p:nvSpPr>
          <p:cNvPr id="21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20EDF-38D6-4E89-868F-A7FB4CA1E2C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ock Cultures for QC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ference strai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Verdana"/>
              </a:rPr>
              <a:t>in-house developed strai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edictable reactions in stains and media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media, reagent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d supplies work as inten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3886200" y="4343400"/>
            <a:ext cx="2895480" cy="1938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20D907-367F-4C4A-A320-3C502A4051A9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5341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Sources for Obtaining Reference Strain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52280" y="1676160"/>
            <a:ext cx="876312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TCC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American Type Culture Collec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NTCC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ational Type Culture Collec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     (UK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IP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steur Institute Collection (Franc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C697B-3F35-4E1C-ADE0-BE31807655C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11C297-E5BB-44DC-AA07-17CFD0916E8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12C94-216E-4422-BA26-D70DA850130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ains are important—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ake care of them!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21" name="Picture 5" descr="PICT0136"/>
          <p:cNvPicPr/>
          <p:nvPr/>
        </p:nvPicPr>
        <p:blipFill>
          <a:blip r:embed="rId1"/>
          <a:stretch/>
        </p:blipFill>
        <p:spPr>
          <a:xfrm>
            <a:off x="380880" y="2097000"/>
            <a:ext cx="4114800" cy="29955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7" descr="PICT0018"/>
          <p:cNvPicPr/>
          <p:nvPr/>
        </p:nvPicPr>
        <p:blipFill>
          <a:blip r:embed="rId2"/>
          <a:stretch/>
        </p:blipFill>
        <p:spPr>
          <a:xfrm>
            <a:off x="4952880" y="2097000"/>
            <a:ext cx="3581640" cy="297180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10"/>
          <p:cNvSpPr/>
          <p:nvPr/>
        </p:nvSpPr>
        <p:spPr>
          <a:xfrm>
            <a:off x="5659560" y="5257800"/>
            <a:ext cx="21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No Attention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4" name="Text Box 11"/>
          <p:cNvSpPr/>
          <p:nvPr/>
        </p:nvSpPr>
        <p:spPr>
          <a:xfrm>
            <a:off x="695520" y="5257800"/>
            <a:ext cx="33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Verdana"/>
              </a:rPr>
              <a:t>Continued Attention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30F73-EFE3-41A4-BFA2-1A949D302D3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AC2BA-DEC9-41F1-B489-73505E533EB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ain Managemen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 established procedure for preparation or reconstitu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el: content, concentration, date prepared and placed in service, expiration, initia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ore appropriate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392C34-DF7C-404F-8CD9-E667CDD6F83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5B729-A560-413A-9153-79DEC932280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 for Stai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4582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s appropriate for particular stain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eck with known organisms or ce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ine for crystal shards or for precipit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ine for contaminants such as bacteria and fung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1295280" y="4648320"/>
            <a:ext cx="2243160" cy="151272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3581280" y="4800600"/>
            <a:ext cx="20574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eft: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Wright stain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ight: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ram stain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rcRect l="7204" t="0" r="10802" b="0"/>
          <a:stretch/>
        </p:blipFill>
        <p:spPr>
          <a:xfrm>
            <a:off x="6019920" y="4572000"/>
            <a:ext cx="1828800" cy="167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2791F2-FE41-47A8-9AA0-B7D3A375D879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3BB4B-F913-4817-9F59-A890F2F1E37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ram Stain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36" name="Picture 4" descr="g061_large"/>
          <p:cNvPicPr/>
          <p:nvPr/>
        </p:nvPicPr>
        <p:blipFill>
          <a:blip r:embed="rId1"/>
          <a:stretch/>
        </p:blipFill>
        <p:spPr>
          <a:xfrm>
            <a:off x="380880" y="1676520"/>
            <a:ext cx="4038840" cy="32763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9" descr="Poor2"/>
          <p:cNvPicPr/>
          <p:nvPr/>
        </p:nvPicPr>
        <p:blipFill>
          <a:blip r:embed="rId2"/>
          <a:stretch/>
        </p:blipFill>
        <p:spPr>
          <a:xfrm>
            <a:off x="4419720" y="1676520"/>
            <a:ext cx="4195800" cy="327636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10"/>
          <p:cNvSpPr/>
          <p:nvPr/>
        </p:nvSpPr>
        <p:spPr>
          <a:xfrm>
            <a:off x="838080" y="502920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9900"/>
                </a:solidFill>
                <a:latin typeface="Verdana"/>
              </a:rPr>
              <a:t>Good Quality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9" name="Text Box 11"/>
          <p:cNvSpPr/>
          <p:nvPr/>
        </p:nvSpPr>
        <p:spPr>
          <a:xfrm>
            <a:off x="5178240" y="5029200"/>
            <a:ext cx="272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Verdana"/>
              </a:rPr>
              <a:t>Poor Quality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E509D9-4173-4CDC-AF1C-792E1AEE5D2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3B814-74A3-44C8-979C-3480553CA43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C of Microbiology Medi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erify performance of all medi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-house prepared: all batch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ercially prepared: new lot on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rcRect l="6557" t="10960" r="6557" b="6576"/>
          <a:stretch/>
        </p:blipFill>
        <p:spPr>
          <a:xfrm>
            <a:off x="609480" y="3505320"/>
            <a:ext cx="2895840" cy="27414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rcRect l="6557" t="10960" r="6557" b="6576"/>
          <a:stretch/>
        </p:blipFill>
        <p:spPr>
          <a:xfrm>
            <a:off x="5867280" y="3581280"/>
            <a:ext cx="2819520" cy="266868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3581280" y="3505320"/>
            <a:ext cx="221004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acConkey Agar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QC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eft: non-lactose fermenter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ight: lactose fermenter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892B36-3019-4384-ADDC-7971D1DE314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8063D-3A6F-4B8C-81B0-FD0950C642D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edia Problems to Avoid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48" name="Group 7"/>
          <p:cNvGrpSpPr/>
          <p:nvPr/>
        </p:nvGrpSpPr>
        <p:grpSpPr>
          <a:xfrm>
            <a:off x="3809880" y="1447920"/>
            <a:ext cx="2514600" cy="914400"/>
            <a:chOff x="3809880" y="1447920"/>
            <a:chExt cx="2514600" cy="914400"/>
          </a:xfrm>
        </p:grpSpPr>
        <p:sp>
          <p:nvSpPr>
            <p:cNvPr id="249" name="AutoShape 8"/>
            <p:cNvSpPr/>
            <p:nvPr/>
          </p:nvSpPr>
          <p:spPr>
            <a:xfrm>
              <a:off x="3888360" y="1905120"/>
              <a:ext cx="2396880" cy="399960"/>
            </a:xfrm>
            <a:prstGeom prst="can">
              <a:avLst>
                <a:gd name="adj" fmla="val 50000"/>
              </a:avLst>
            </a:prstGeom>
            <a:solidFill>
              <a:srgbClr val="ff260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50" name="AutoShape 9"/>
            <p:cNvSpPr/>
            <p:nvPr/>
          </p:nvSpPr>
          <p:spPr>
            <a:xfrm>
              <a:off x="3809880" y="1447920"/>
              <a:ext cx="2514600" cy="914400"/>
            </a:xfrm>
            <a:prstGeom prst="can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51" name="Group 10"/>
          <p:cNvGrpSpPr/>
          <p:nvPr/>
        </p:nvGrpSpPr>
        <p:grpSpPr>
          <a:xfrm>
            <a:off x="5791320" y="2057400"/>
            <a:ext cx="2514600" cy="914400"/>
            <a:chOff x="5791320" y="2057400"/>
            <a:chExt cx="2514600" cy="914400"/>
          </a:xfrm>
        </p:grpSpPr>
        <p:sp>
          <p:nvSpPr>
            <p:cNvPr id="252" name="AutoShape 11"/>
            <p:cNvSpPr/>
            <p:nvPr/>
          </p:nvSpPr>
          <p:spPr>
            <a:xfrm>
              <a:off x="5791320" y="2171520"/>
              <a:ext cx="2514600" cy="800280"/>
            </a:xfrm>
            <a:prstGeom prst="can">
              <a:avLst>
                <a:gd name="adj" fmla="val 50000"/>
              </a:avLst>
            </a:prstGeom>
            <a:solidFill>
              <a:srgbClr val="ff260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53" name="Group 12"/>
            <p:cNvGrpSpPr/>
            <p:nvPr/>
          </p:nvGrpSpPr>
          <p:grpSpPr>
            <a:xfrm>
              <a:off x="6591240" y="2171520"/>
              <a:ext cx="457200" cy="199800"/>
              <a:chOff x="6591240" y="2171520"/>
              <a:chExt cx="457200" cy="199800"/>
            </a:xfrm>
          </p:grpSpPr>
          <p:sp>
            <p:nvSpPr>
              <p:cNvPr id="254" name="Oval 13"/>
              <p:cNvSpPr/>
              <p:nvPr/>
            </p:nvSpPr>
            <p:spPr>
              <a:xfrm>
                <a:off x="6762600" y="2171520"/>
                <a:ext cx="114120" cy="5688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5" name="Oval 14"/>
              <p:cNvSpPr/>
              <p:nvPr/>
            </p:nvSpPr>
            <p:spPr>
              <a:xfrm>
                <a:off x="6591240" y="2171520"/>
                <a:ext cx="457200" cy="19980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6" name="Oval 15"/>
              <p:cNvSpPr/>
              <p:nvPr/>
            </p:nvSpPr>
            <p:spPr>
              <a:xfrm>
                <a:off x="6619680" y="2171520"/>
                <a:ext cx="400320" cy="1713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7" name="Oval 16"/>
              <p:cNvSpPr/>
              <p:nvPr/>
            </p:nvSpPr>
            <p:spPr>
              <a:xfrm>
                <a:off x="6648120" y="2171520"/>
                <a:ext cx="343080" cy="1429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8" name="Oval 17"/>
              <p:cNvSpPr/>
              <p:nvPr/>
            </p:nvSpPr>
            <p:spPr>
              <a:xfrm>
                <a:off x="6676920" y="2171520"/>
                <a:ext cx="285840" cy="1141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9" name="Oval 18"/>
              <p:cNvSpPr/>
              <p:nvPr/>
            </p:nvSpPr>
            <p:spPr>
              <a:xfrm>
                <a:off x="6705360" y="2171520"/>
                <a:ext cx="228600" cy="856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0" name="Oval 19"/>
              <p:cNvSpPr/>
              <p:nvPr/>
            </p:nvSpPr>
            <p:spPr>
              <a:xfrm>
                <a:off x="6734160" y="2171520"/>
                <a:ext cx="171360" cy="56880"/>
              </a:xfrm>
              <a:prstGeom prst="ellipse">
                <a:avLst/>
              </a:prstGeom>
              <a:noFill/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261" name="AutoShape 20"/>
            <p:cNvSpPr/>
            <p:nvPr/>
          </p:nvSpPr>
          <p:spPr>
            <a:xfrm>
              <a:off x="5791320" y="2057400"/>
              <a:ext cx="2514600" cy="914400"/>
            </a:xfrm>
            <a:prstGeom prst="can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62" name="Group 21"/>
            <p:cNvGrpSpPr/>
            <p:nvPr/>
          </p:nvGrpSpPr>
          <p:grpSpPr>
            <a:xfrm>
              <a:off x="7534440" y="2228760"/>
              <a:ext cx="457200" cy="199800"/>
              <a:chOff x="7534440" y="2228760"/>
              <a:chExt cx="457200" cy="199800"/>
            </a:xfrm>
          </p:grpSpPr>
          <p:sp>
            <p:nvSpPr>
              <p:cNvPr id="263" name="Oval 22"/>
              <p:cNvSpPr/>
              <p:nvPr/>
            </p:nvSpPr>
            <p:spPr>
              <a:xfrm>
                <a:off x="7705800" y="2228760"/>
                <a:ext cx="114120" cy="5688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4" name="Oval 23"/>
              <p:cNvSpPr/>
              <p:nvPr/>
            </p:nvSpPr>
            <p:spPr>
              <a:xfrm>
                <a:off x="7534440" y="2228760"/>
                <a:ext cx="457200" cy="19980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5" name="Oval 24"/>
              <p:cNvSpPr/>
              <p:nvPr/>
            </p:nvSpPr>
            <p:spPr>
              <a:xfrm>
                <a:off x="7562880" y="2228760"/>
                <a:ext cx="400320" cy="1713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6" name="Oval 25"/>
              <p:cNvSpPr/>
              <p:nvPr/>
            </p:nvSpPr>
            <p:spPr>
              <a:xfrm>
                <a:off x="7591320" y="2228760"/>
                <a:ext cx="343080" cy="1429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7" name="Oval 26"/>
              <p:cNvSpPr/>
              <p:nvPr/>
            </p:nvSpPr>
            <p:spPr>
              <a:xfrm>
                <a:off x="7620120" y="2228760"/>
                <a:ext cx="285840" cy="1141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8" name="Oval 27"/>
              <p:cNvSpPr/>
              <p:nvPr/>
            </p:nvSpPr>
            <p:spPr>
              <a:xfrm>
                <a:off x="7648560" y="2228760"/>
                <a:ext cx="228600" cy="856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9" name="Oval 28"/>
              <p:cNvSpPr/>
              <p:nvPr/>
            </p:nvSpPr>
            <p:spPr>
              <a:xfrm>
                <a:off x="7677360" y="2228760"/>
                <a:ext cx="171360" cy="56880"/>
              </a:xfrm>
              <a:prstGeom prst="ellipse">
                <a:avLst/>
              </a:prstGeom>
              <a:noFill/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270" name="Text Box 32"/>
          <p:cNvSpPr/>
          <p:nvPr/>
        </p:nvSpPr>
        <p:spPr>
          <a:xfrm>
            <a:off x="912960" y="1523880"/>
            <a:ext cx="2758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ut-dated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ried-out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taminated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1" name="Text Box 9"/>
          <p:cNvSpPr/>
          <p:nvPr/>
        </p:nvSpPr>
        <p:spPr>
          <a:xfrm>
            <a:off x="609480" y="3200400"/>
            <a:ext cx="8229600" cy="265356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Human bloo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hould not be used because: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o much batch to batch variation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include inhibitory substances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including antimicrobial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contain biohazard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(e.g., hepatitis virus)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5791320" y="4724280"/>
            <a:ext cx="1950840" cy="1521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E928FE-F2E9-41DB-BC08-270788D0C8F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" descr=""/>
          <p:cNvPicPr/>
          <p:nvPr/>
        </p:nvPicPr>
        <p:blipFill>
          <a:blip r:embed="rId1"/>
          <a:srcRect l="10286" t="10360" r="10286" b="20720"/>
          <a:stretch/>
        </p:blipFill>
        <p:spPr>
          <a:xfrm>
            <a:off x="914400" y="1143000"/>
            <a:ext cx="7924680" cy="5064120"/>
          </a:xfrm>
          <a:prstGeom prst="rect">
            <a:avLst/>
          </a:prstGeom>
          <a:ln w="0">
            <a:noFill/>
          </a:ln>
        </p:spPr>
      </p:pic>
      <p:sp>
        <p:nvSpPr>
          <p:cNvPr id="27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D9868-25E6-41CE-B455-79C37240AB5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 of Growth Medi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keep records for media prepared in-hou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ecord outcomes in a dedicated media logbook for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H,  sterility,  ability to support growth using stock cultures,  biochemical response of stock cult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requenc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est each new batch or lot numb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DACF17-F91F-4621-BC80-D50ABFEA541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FDBF5-A72B-4FA8-80BF-6350060E324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8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should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iate between built-in and traditional control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how to use stock cultures for microbiology QC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use of quality control procedures for stains used in microscopic examina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methods for verifying performance of microbiological medi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381A76-380A-4E37-9D73-07646ECAE34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F3C8C-C794-4FDD-8414-7187E16A10A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qualitative tests produce non-numerical results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emi-quantitative tests give an estimat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stablish a QC program for qualitative and semi-quantitative tes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7A2D52-4DD5-44B9-827B-7C8E824AE8D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QC procedures followed by ALL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lways record QC results and corrective a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If QC results are not acceptable, do not report patient results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C543B-B176-469B-AAA0-D493C54D836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6BC1F7-4CF8-47AD-8A76-E8B80E8C474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285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6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7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8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9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0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1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2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3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4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5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6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7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8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99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300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301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302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303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</p:grpSp>
            <p:sp>
              <p:nvSpPr>
                <p:cNvPr id="304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305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06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307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08" name="Text Box 74"/>
              <p:cNvSpPr/>
              <p:nvPr/>
            </p:nvSpPr>
            <p:spPr>
              <a:xfrm>
                <a:off x="24940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09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310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311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12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313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14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15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316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17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18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19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20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321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2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23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24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325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6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328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9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30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31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32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33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334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35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337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38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39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340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41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1F3E3F-0CB1-4387-A5AC-59CDAC36F49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oratory A performs a culture, and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Pseudomonas aeruginosa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s identified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at QC measures can you use to confirm that the isolate is correctly identified?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AF802D-131C-45C9-84FB-CB70BE540C1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457200"/>
            <a:ext cx="74678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2209680" y="1066680"/>
            <a:ext cx="5105520" cy="5257440"/>
            <a:chOff x="2209680" y="1066680"/>
            <a:chExt cx="5105520" cy="5257440"/>
          </a:xfrm>
        </p:grpSpPr>
        <p:sp>
          <p:nvSpPr>
            <p:cNvPr id="136" name="AutoShape 4"/>
            <p:cNvSpPr/>
            <p:nvPr/>
          </p:nvSpPr>
          <p:spPr>
            <a:xfrm>
              <a:off x="2209680" y="1066680"/>
              <a:ext cx="5105520" cy="5257440"/>
            </a:xfrm>
            <a:custGeom>
              <a:avLst/>
              <a:gdLst>
                <a:gd name="textAreaLeft" fmla="*/ 249120 w 5105520"/>
                <a:gd name="textAreaRight" fmla="*/ 4856400 w 5105520"/>
                <a:gd name="textAreaTop" fmla="*/ 249120 h 5257440"/>
                <a:gd name="textAreaBottom" fmla="*/ 5008320 h 5257440"/>
              </a:gdLst>
              <a:ahLst/>
              <a:rect l="textAreaLeft" t="textAreaTop" r="textAreaRight" b="textAreaBottom"/>
              <a:pathLst>
                <a:path w="21600" h="22243">
                  <a:moveTo>
                    <a:pt x="3600" y="0"/>
                  </a:moveTo>
                  <a:arcTo wR="3600" hR="3600" stAng="16200000" swAng="-5400000"/>
                  <a:lnTo>
                    <a:pt x="0" y="18643"/>
                  </a:lnTo>
                  <a:arcTo wR="3600" hR="3600" stAng="10800000" swAng="-5400000"/>
                  <a:lnTo>
                    <a:pt x="18000" y="2224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7" name="Freeform 9"/>
            <p:cNvSpPr/>
            <p:nvPr/>
          </p:nvSpPr>
          <p:spPr>
            <a:xfrm>
              <a:off x="4421160" y="3834000"/>
              <a:ext cx="118800" cy="705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8" name="Freeform 10"/>
            <p:cNvSpPr/>
            <p:nvPr/>
          </p:nvSpPr>
          <p:spPr>
            <a:xfrm>
              <a:off x="4389840" y="3826080"/>
              <a:ext cx="317160" cy="3783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9" name="Freeform 11"/>
            <p:cNvSpPr/>
            <p:nvPr/>
          </p:nvSpPr>
          <p:spPr>
            <a:xfrm>
              <a:off x="4389840" y="3826080"/>
              <a:ext cx="317160" cy="3783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0" name="Freeform 12"/>
            <p:cNvSpPr/>
            <p:nvPr/>
          </p:nvSpPr>
          <p:spPr>
            <a:xfrm>
              <a:off x="4647960" y="2567880"/>
              <a:ext cx="528840" cy="9453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1" name="Freeform 13"/>
            <p:cNvSpPr/>
            <p:nvPr/>
          </p:nvSpPr>
          <p:spPr>
            <a:xfrm>
              <a:off x="4647960" y="2567880"/>
              <a:ext cx="528840" cy="9453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2" name="Freeform 16"/>
            <p:cNvSpPr/>
            <p:nvPr/>
          </p:nvSpPr>
          <p:spPr>
            <a:xfrm>
              <a:off x="3076200" y="3210480"/>
              <a:ext cx="165600" cy="11088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3" name="Freeform 22"/>
            <p:cNvSpPr/>
            <p:nvPr/>
          </p:nvSpPr>
          <p:spPr>
            <a:xfrm>
              <a:off x="3065040" y="3148920"/>
              <a:ext cx="168840" cy="385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4" name="Line 24"/>
            <p:cNvSpPr/>
            <p:nvPr/>
          </p:nvSpPr>
          <p:spPr>
            <a:xfrm flipH="1" flipV="1">
              <a:off x="4824720" y="5932440"/>
              <a:ext cx="10800" cy="450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5" name="Line 25"/>
            <p:cNvSpPr/>
            <p:nvPr/>
          </p:nvSpPr>
          <p:spPr>
            <a:xfrm flipV="1">
              <a:off x="4566600" y="4794120"/>
              <a:ext cx="1440" cy="1015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6338880" y="1713960"/>
              <a:ext cx="1440" cy="39837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4762080" y="1868760"/>
              <a:ext cx="1440" cy="39834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3110400" y="1917000"/>
              <a:ext cx="1080" cy="39834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 flipH="1">
              <a:off x="2809800" y="1760400"/>
              <a:ext cx="38682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50" name="Group 65"/>
            <p:cNvGrpSpPr/>
            <p:nvPr/>
          </p:nvGrpSpPr>
          <p:grpSpPr>
            <a:xfrm>
              <a:off x="2509560" y="1156680"/>
              <a:ext cx="1243080" cy="1156320"/>
              <a:chOff x="2509560" y="1156680"/>
              <a:chExt cx="1243080" cy="1156320"/>
            </a:xfrm>
          </p:grpSpPr>
          <p:grpSp>
            <p:nvGrpSpPr>
              <p:cNvPr id="151" name="Group 66"/>
              <p:cNvGrpSpPr/>
              <p:nvPr/>
            </p:nvGrpSpPr>
            <p:grpSpPr>
              <a:xfrm>
                <a:off x="2509560" y="1156680"/>
                <a:ext cx="1220760" cy="1156320"/>
                <a:chOff x="2509560" y="1156680"/>
                <a:chExt cx="1220760" cy="1156320"/>
              </a:xfrm>
            </p:grpSpPr>
            <p:grpSp>
              <p:nvGrpSpPr>
                <p:cNvPr id="152" name="Group 67"/>
                <p:cNvGrpSpPr/>
                <p:nvPr/>
              </p:nvGrpSpPr>
              <p:grpSpPr>
                <a:xfrm>
                  <a:off x="2560320" y="1156680"/>
                  <a:ext cx="1135440" cy="1156320"/>
                  <a:chOff x="2560320" y="1156680"/>
                  <a:chExt cx="1135440" cy="1156320"/>
                </a:xfrm>
              </p:grpSpPr>
              <p:sp>
                <p:nvSpPr>
                  <p:cNvPr id="153" name="Freeform 68"/>
                  <p:cNvSpPr/>
                  <p:nvPr/>
                </p:nvSpPr>
                <p:spPr>
                  <a:xfrm>
                    <a:off x="2560320" y="1156680"/>
                    <a:ext cx="1135440" cy="115632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54" name="Freeform 69"/>
                  <p:cNvSpPr/>
                  <p:nvPr/>
                </p:nvSpPr>
                <p:spPr>
                  <a:xfrm>
                    <a:off x="2560320" y="1156680"/>
                    <a:ext cx="1135440" cy="115632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</p:grpSp>
            <p:sp>
              <p:nvSpPr>
                <p:cNvPr id="155" name="Text Box 70"/>
                <p:cNvSpPr/>
                <p:nvPr/>
              </p:nvSpPr>
              <p:spPr>
                <a:xfrm>
                  <a:off x="2509560" y="1423080"/>
                  <a:ext cx="1220760" cy="36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156" name="Text Box 71"/>
              <p:cNvSpPr/>
              <p:nvPr/>
            </p:nvSpPr>
            <p:spPr>
              <a:xfrm>
                <a:off x="2531880" y="156672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57" name="Group 72"/>
            <p:cNvGrpSpPr/>
            <p:nvPr/>
          </p:nvGrpSpPr>
          <p:grpSpPr>
            <a:xfrm>
              <a:off x="4141440" y="1156680"/>
              <a:ext cx="1221480" cy="1156320"/>
              <a:chOff x="4141440" y="1156680"/>
              <a:chExt cx="1221480" cy="1156320"/>
            </a:xfrm>
          </p:grpSpPr>
          <p:sp>
            <p:nvSpPr>
              <p:cNvPr id="158" name="Freeform 73"/>
              <p:cNvSpPr/>
              <p:nvPr/>
            </p:nvSpPr>
            <p:spPr>
              <a:xfrm>
                <a:off x="4181760" y="1156680"/>
                <a:ext cx="1136160" cy="115632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9" name="Text Box 74"/>
              <p:cNvSpPr/>
              <p:nvPr/>
            </p:nvSpPr>
            <p:spPr>
              <a:xfrm>
                <a:off x="4141440" y="156672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60" name="Group 75"/>
            <p:cNvGrpSpPr/>
            <p:nvPr/>
          </p:nvGrpSpPr>
          <p:grpSpPr>
            <a:xfrm>
              <a:off x="5718240" y="1156680"/>
              <a:ext cx="1221480" cy="1156320"/>
              <a:chOff x="5718240" y="1156680"/>
              <a:chExt cx="1221480" cy="1156320"/>
            </a:xfrm>
          </p:grpSpPr>
          <p:grpSp>
            <p:nvGrpSpPr>
              <p:cNvPr id="161" name="Group 76"/>
              <p:cNvGrpSpPr/>
              <p:nvPr/>
            </p:nvGrpSpPr>
            <p:grpSpPr>
              <a:xfrm>
                <a:off x="5762880" y="1156680"/>
                <a:ext cx="1136160" cy="1156320"/>
                <a:chOff x="5762880" y="1156680"/>
                <a:chExt cx="1136160" cy="1156320"/>
              </a:xfrm>
            </p:grpSpPr>
            <p:sp>
              <p:nvSpPr>
                <p:cNvPr id="162" name="Freeform 77"/>
                <p:cNvSpPr/>
                <p:nvPr/>
              </p:nvSpPr>
              <p:spPr>
                <a:xfrm>
                  <a:off x="5762880" y="1156680"/>
                  <a:ext cx="1136160" cy="115632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63" name="Freeform 78"/>
                <p:cNvSpPr/>
                <p:nvPr/>
              </p:nvSpPr>
              <p:spPr>
                <a:xfrm>
                  <a:off x="5762880" y="1156680"/>
                  <a:ext cx="1136160" cy="115632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164" name="Text Box 79"/>
              <p:cNvSpPr/>
              <p:nvPr/>
            </p:nvSpPr>
            <p:spPr>
              <a:xfrm>
                <a:off x="5718240" y="157104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885040" y="3075120"/>
              <a:ext cx="38682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2509560" y="2458440"/>
              <a:ext cx="1223280" cy="1155960"/>
              <a:chOff x="2509560" y="2458440"/>
              <a:chExt cx="1223280" cy="1155960"/>
            </a:xfrm>
          </p:grpSpPr>
          <p:sp>
            <p:nvSpPr>
              <p:cNvPr id="167" name="Freeform 46"/>
              <p:cNvSpPr/>
              <p:nvPr/>
            </p:nvSpPr>
            <p:spPr>
              <a:xfrm>
                <a:off x="2513880" y="2458440"/>
                <a:ext cx="113868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68" name="Text Box 47"/>
              <p:cNvSpPr/>
              <p:nvPr/>
            </p:nvSpPr>
            <p:spPr>
              <a:xfrm>
                <a:off x="2509560" y="273708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69" name="Freeform 31"/>
            <p:cNvSpPr/>
            <p:nvPr/>
          </p:nvSpPr>
          <p:spPr>
            <a:xfrm>
              <a:off x="4189680" y="2519280"/>
              <a:ext cx="1135800" cy="11581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70" name="Text Box 43"/>
            <p:cNvSpPr/>
            <p:nvPr/>
          </p:nvSpPr>
          <p:spPr>
            <a:xfrm>
              <a:off x="4228920" y="2535480"/>
              <a:ext cx="113400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71" name=""/>
            <p:cNvGrpSpPr/>
            <p:nvPr/>
          </p:nvGrpSpPr>
          <p:grpSpPr>
            <a:xfrm>
              <a:off x="5663160" y="2475720"/>
              <a:ext cx="1316880" cy="1155960"/>
              <a:chOff x="5663160" y="2475720"/>
              <a:chExt cx="1316880" cy="1155960"/>
            </a:xfrm>
          </p:grpSpPr>
          <p:sp>
            <p:nvSpPr>
              <p:cNvPr id="172" name="Freeform 48"/>
              <p:cNvSpPr/>
              <p:nvPr/>
            </p:nvSpPr>
            <p:spPr>
              <a:xfrm>
                <a:off x="5738040" y="2475720"/>
                <a:ext cx="113688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73" name="Text Box 55"/>
              <p:cNvSpPr/>
              <p:nvPr/>
            </p:nvSpPr>
            <p:spPr>
              <a:xfrm>
                <a:off x="5663160" y="276696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74" name="Line 27"/>
            <p:cNvSpPr/>
            <p:nvPr/>
          </p:nvSpPr>
          <p:spPr>
            <a:xfrm flipH="1">
              <a:off x="2809800" y="4313880"/>
              <a:ext cx="38682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75" name=""/>
            <p:cNvGrpSpPr/>
            <p:nvPr/>
          </p:nvGrpSpPr>
          <p:grpSpPr>
            <a:xfrm>
              <a:off x="2509560" y="3779280"/>
              <a:ext cx="1221480" cy="1157400"/>
              <a:chOff x="2509560" y="3779280"/>
              <a:chExt cx="1221480" cy="1157400"/>
            </a:xfrm>
          </p:grpSpPr>
          <p:sp>
            <p:nvSpPr>
              <p:cNvPr id="176" name="Freeform 81"/>
              <p:cNvSpPr/>
              <p:nvPr/>
            </p:nvSpPr>
            <p:spPr>
              <a:xfrm>
                <a:off x="2540880" y="3779280"/>
                <a:ext cx="1136520" cy="11574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77" name="Text Box 82"/>
              <p:cNvSpPr/>
              <p:nvPr/>
            </p:nvSpPr>
            <p:spPr>
              <a:xfrm>
                <a:off x="2509560" y="400428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4141440" y="3779280"/>
              <a:ext cx="1221480" cy="1157400"/>
              <a:chOff x="4141440" y="3779280"/>
              <a:chExt cx="1221480" cy="1157400"/>
            </a:xfrm>
          </p:grpSpPr>
          <p:sp>
            <p:nvSpPr>
              <p:cNvPr id="179" name="Freeform 30"/>
              <p:cNvSpPr/>
              <p:nvPr/>
            </p:nvSpPr>
            <p:spPr>
              <a:xfrm>
                <a:off x="4167720" y="3779280"/>
                <a:ext cx="1136880" cy="11574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0" name="Text Box 54"/>
              <p:cNvSpPr/>
              <p:nvPr/>
            </p:nvSpPr>
            <p:spPr>
              <a:xfrm>
                <a:off x="4141440" y="402228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81" name="Freeform 50"/>
            <p:cNvSpPr/>
            <p:nvPr/>
          </p:nvSpPr>
          <p:spPr>
            <a:xfrm>
              <a:off x="5738400" y="3772800"/>
              <a:ext cx="1137240" cy="11581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2" name="Text Box 51"/>
            <p:cNvSpPr/>
            <p:nvPr/>
          </p:nvSpPr>
          <p:spPr>
            <a:xfrm>
              <a:off x="5718240" y="385020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3" name="Line 27"/>
            <p:cNvSpPr/>
            <p:nvPr/>
          </p:nvSpPr>
          <p:spPr>
            <a:xfrm flipH="1">
              <a:off x="2885040" y="5626800"/>
              <a:ext cx="38682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84" name=""/>
            <p:cNvGrpSpPr/>
            <p:nvPr/>
          </p:nvGrpSpPr>
          <p:grpSpPr>
            <a:xfrm>
              <a:off x="2434680" y="5090400"/>
              <a:ext cx="1399680" cy="1155960"/>
              <a:chOff x="2434680" y="5090400"/>
              <a:chExt cx="1399680" cy="1155960"/>
            </a:xfrm>
          </p:grpSpPr>
          <p:sp>
            <p:nvSpPr>
              <p:cNvPr id="185" name="Freeform 57"/>
              <p:cNvSpPr/>
              <p:nvPr/>
            </p:nvSpPr>
            <p:spPr>
              <a:xfrm>
                <a:off x="2581200" y="5090400"/>
                <a:ext cx="113544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6" name="Text Box 58"/>
              <p:cNvSpPr/>
              <p:nvPr/>
            </p:nvSpPr>
            <p:spPr>
              <a:xfrm>
                <a:off x="2434680" y="5319000"/>
                <a:ext cx="1399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4141440" y="5024160"/>
              <a:ext cx="1221480" cy="1156320"/>
              <a:chOff x="4141440" y="5024160"/>
              <a:chExt cx="1221480" cy="1156320"/>
            </a:xfrm>
          </p:grpSpPr>
          <p:sp>
            <p:nvSpPr>
              <p:cNvPr id="188" name="Freeform 34"/>
              <p:cNvSpPr/>
              <p:nvPr/>
            </p:nvSpPr>
            <p:spPr>
              <a:xfrm>
                <a:off x="4189320" y="5024160"/>
                <a:ext cx="1135440" cy="115632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9" name="Text Box 61"/>
              <p:cNvSpPr/>
              <p:nvPr/>
            </p:nvSpPr>
            <p:spPr>
              <a:xfrm>
                <a:off x="4141440" y="531864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5738400" y="5090400"/>
              <a:ext cx="1221480" cy="1155960"/>
              <a:chOff x="5738400" y="5090400"/>
              <a:chExt cx="1221480" cy="1155960"/>
            </a:xfrm>
          </p:grpSpPr>
          <p:sp>
            <p:nvSpPr>
              <p:cNvPr id="191" name="Freeform 63"/>
              <p:cNvSpPr/>
              <p:nvPr/>
            </p:nvSpPr>
            <p:spPr>
              <a:xfrm>
                <a:off x="5757120" y="5090400"/>
                <a:ext cx="113688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92" name="Text Box 64"/>
              <p:cNvSpPr/>
              <p:nvPr/>
            </p:nvSpPr>
            <p:spPr>
              <a:xfrm>
                <a:off x="5738400" y="531900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339215-02C8-4239-A157-F43D42B347A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alitative or semi-quantitative tests - Exampl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6840" y="1599840"/>
            <a:ext cx="8077320" cy="36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icroscopic examination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ipstick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rologic procedur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icrobiological procedur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ny reaction that produces non-numeric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8D7F9-C509-4D07-ABAF-A8D11250BCA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rcRect l="0" t="0" r="4400" b="1607"/>
          <a:stretch/>
        </p:blipFill>
        <p:spPr>
          <a:xfrm>
            <a:off x="5638680" y="4572000"/>
            <a:ext cx="2457720" cy="16826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rcRect l="15272" t="17455" r="15272" b="14546"/>
          <a:stretch/>
        </p:blipFill>
        <p:spPr>
          <a:xfrm>
            <a:off x="3429000" y="4572000"/>
            <a:ext cx="2209680" cy="1676520"/>
          </a:xfrm>
          <a:prstGeom prst="rect">
            <a:avLst/>
          </a:prstGeom>
          <a:ln w="0">
            <a:noFill/>
          </a:ln>
        </p:spPr>
      </p:pic>
      <p:pic>
        <p:nvPicPr>
          <p:cNvPr id="198" name="wbcrbc" descr=""/>
          <p:cNvPicPr/>
          <p:nvPr/>
        </p:nvPicPr>
        <p:blipFill>
          <a:blip r:embed="rId3"/>
          <a:srcRect l="20336" t="0" r="0" b="0"/>
          <a:stretch/>
        </p:blipFill>
        <p:spPr>
          <a:xfrm>
            <a:off x="1523880" y="4572000"/>
            <a:ext cx="1941480" cy="1690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CD4261-43F6-49EE-A239-CF3241B45EF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ortant Concep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ample managemen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aff competency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mainten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rol material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ains, media and reagents manag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keep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D5A30-1FB7-4167-BB3D-EB9205FEDBC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B28733-DD65-4778-B5B3-139223D38FE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 Materia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built-in control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control materials that mimic patient sampl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reference organism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807441-DDB2-4F9B-884B-1A85D4EA252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Built-in Contro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integrated into the design of a test kit devi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utomatically run with each test perform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ess certain aspects of kit perform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ay not assess enti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esting proc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E12184-D594-46E2-9DBF-9DCFE78B1DC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raditional Contro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aterials with known reactiv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imic patient samp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ess the integrity of the entire tes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8AED70-BF91-432D-AF5C-98590C44F77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17:20:49Z</dcterms:created>
  <dc:creator>exw2</dc:creator>
  <dc:description/>
  <dc:language>en-US</dc:language>
  <cp:lastModifiedBy>bergera</cp:lastModifiedBy>
  <dcterms:modified xsi:type="dcterms:W3CDTF">2009-05-19T09:52:17Z</dcterms:modified>
  <cp:revision>464</cp:revision>
  <dc:subject/>
  <dc:title>Slide 1</dc:title>
</cp:coreProperties>
</file>